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ome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the beach ever clos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$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$3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$4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$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does it cost to swim in the yarra cent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wim wi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932040" y="5843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im un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5276880" y="4861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wim to the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swim agains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caught in a rip what way do you swi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9584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39760" y="5799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ive in th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773280" y="5830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hit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521820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wim out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et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do if you hear an alarm at the b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pply vin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ee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ub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et ov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put on a blue bottle s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lease fire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1073160" y="576756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ersonal floatation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5156280" y="4908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people float diff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5194440" y="58910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lease find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‘p.f.d’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eat 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822240" y="588024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im to sh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ignite a f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do if you capsize a bo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81"/>
          <p:cNvSpPr/>
          <p:nvPr/>
        </p:nvSpPr>
        <p:spPr>
          <a:xfrm>
            <a:off x="4597560" y="478944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689040" y="4800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chool licks someone's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689040" y="5856120"/>
            <a:ext cx="331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me ladies swim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5084640" y="482616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urf life saving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ave lives save c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‘s.l.s.c’ stan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 a boat how many knots can you go when you're not fully licen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24560" y="48243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es meat can 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57942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oung men can’t a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outh means cat 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5843520"/>
            <a:ext cx="39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oung man christian assoc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‘y.m.c.a’ stan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.h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m.w.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.m.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u.r.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of a marine rad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t self de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785880" y="60357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t shoots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5121360" y="48610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t transmits you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t makes 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an EPIRB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o 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762120" y="5891040"/>
            <a:ext cx="26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o not grow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194440" y="4824360"/>
            <a:ext cx="354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so you don’t                     get burn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not get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is it important to wear sunscre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738360" y="4811760"/>
            <a:ext cx="34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o put on your sun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833400" y="5808600"/>
            <a:ext cx="32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o give you a tow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289480" y="4861080"/>
            <a:ext cx="25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o make 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o save l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 we have lifesav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ellow and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725400" y="585468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green and g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ink and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5313240" y="58435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range and 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colors are the flags you swim betwe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6T03:52:22Z</dcterms:modified>
  <cp:revision>22</cp:revision>
  <dc:subject/>
  <dc:title>No Slide Title</dc:title>
</cp:coreProperties>
</file>